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11A-D12B-4359-9A92-243EFA18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ADA-D976-461D-B246-5B4FDDE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4E1-82FB-41FA-9B90-EFA12F14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BE2-EC7D-4080-B326-9A4BEB62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681-9FD6-4E31-8A4D-88B443F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1B4-6E64-4214-B871-A99B67CB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BCA-B8E3-405A-9123-7B0ABF0F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D30-D60F-458E-B73E-D75E945E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2D1-EB98-47D6-8B11-BB4FE8C3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337-C653-42D0-8022-5383C09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82F-827F-416E-9D3C-0DE5DF3F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463-EE59-47CB-83ED-75F40F11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A6B9-98BF-4352-BBB5-72D70A42F6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960" y="9036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Upgrade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func.d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mpatibi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  <a:ea typeface="새굴림"/>
              </a:rPr>
              <a:t>X change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pmstx.d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7242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pply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2670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904040" y="1235160"/>
            <a:ext cx="22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s there any speci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or this version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BD04924_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934600" y="990720"/>
            <a:ext cx="25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 must 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release notic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know what is different fro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vious 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BD00028_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ew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Version Rele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4724280"/>
            <a:ext cx="2057400" cy="83844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724280"/>
            <a:ext cx="1981080" cy="838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W Status Che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ersion Check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7242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4191120"/>
            <a:ext cx="2286000" cy="52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grade(v3.20Xx or below  -&gt; v3.25 or ab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4:37:35Z</dcterms:created>
  <dc:creator>jmchoi</dc:creator>
  <dc:description/>
  <dc:language>en-US</dc:language>
  <cp:lastModifiedBy>jmchoi</cp:lastModifiedBy>
  <dcterms:modified xsi:type="dcterms:W3CDTF">2004-01-16T06:56:38Z</dcterms:modified>
  <cp:revision>2</cp:revision>
  <dc:subject/>
  <dc:title>PowerPoint 프레젠테이션</dc:title>
</cp:coreProperties>
</file>