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F46-6B49-4852-9033-7A2D829F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241-A4E4-4D2E-893D-8B9F6DDE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687-A261-4C0B-89F0-BA60E62A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D5F-62C5-43EB-9A24-95EA02C1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5C7-3D23-4F1F-8CF0-9D33E162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0FC-7516-4D0E-9165-C705F45A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1B4-936F-4200-AE42-6E03880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957-AEB7-4692-A91C-D951B69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D40-A6E5-4170-ABD2-B2620C2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DED-71C2-4343-B326-83C2E8F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DBE-5EB7-4EA1-B323-594ADD4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567-B9E1-4F12-B857-D1C61D39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D47-4BA7-408D-A08F-E7AFEB5C9EB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5760" y="450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4.2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098400" y="762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System Monitoring &amp; Tr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990720"/>
            <a:ext cx="8763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Rest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ex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ate:2002-01-25,time:09:31:47,counter:f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exception:  address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c   = 0110f6f4 sr  = 20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p = 010014ea msp = 00000000 isp = 01fb62f4 vbr = 01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fc  = 00000007 dfc   = 0000000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0   = 00000005 d1   = 00000001 d2  = 00000002 d3  = 000000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4   = 00000002 d5   = 00000000 d6  = 00000000 d7  = 0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0   = 01fb6414 a1    = 01fb630c a2  = 00000001 a3  = 01fb64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4   = 01fb63a0 a5    = 0112de66 a6  = 01fb641c a7  = 01fb62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etflag 8 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dx=8 : System Last Message Debug : 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ys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ystem Last Message Save : PB Event : Len=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0020118f020000000000000000003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19000"/>
            <a:ext cx="876312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Watch Do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pointer = 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Pno MS SS rel  CM CS cpt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040 01 00 000  ff ff 000  00 00 40 00 90 33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040 01 03 000  ff ff 000  00 00 40 00 90 14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85800"/>
            <a:ext cx="87631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Port Bloc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evtms port_n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ort = 020  In pointer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 MS SS relp   CM CS cptr 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 00 00 0000   ff ff 0000   05 00 62 0b 20 01 01 01 18 00 01 00 01 10 00 4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 00 00 0000   ff ff 0000   00 00 62 00 06 00 00 00 62 00 00 00 00 00 40 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 04 00 4001   05 00 0062   05 00 62 0b 12 00 01 01 e6 3e f2 01 97 7c 00 5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3  06 00 4001   06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4  00 00 0000   ff ff 0000   05 00 62 0b 12 00 01 0a ca 3e b8 01 0a 8a ca 5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5  02 00 0000   ff ff 0000   05 00 62 0b 14 00 0a 8a ca fe 01 0a 8a 01 00 8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6  02 00 0000   ff ff 0000   05 00 62 0b 15 0a 00 14 00 0a 8a ca fe 01 0a 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7  02 05 0081   05 00 0062   05 00 62 0b 15 01 00 01 81 ca 3e 14 01 01 81 5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8  02 06 0081   05 00 0062   05 00 62 0b 15 06 00 06 86 ca 3e 14 01 06 86 3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9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0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1  02 06 0081   05 50 0062   00 00 62 00 0f 00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2  02 4b 0081   07 00 0062   00 00 62 00 70 ff ff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3  05 00 0081   07 00 0062   00 00 62 00 90 08 09 98 01 48 07 30 01 47 f7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4  05 00 0081   08 00 0062   00 00 62 00 02 81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5  06 00 0081   08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610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VMS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e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Status(184&lt;-1be) mr=0,sb=11,c=ff,rv=ff,cfwd=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uto ATD Svc(0184) cause=9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DTMF Sending Info(vms_pno 0184, send_buf[b2 a1 5f ff ff ff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MDA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8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SMDA Result:Serial_NO(0000)]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Current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e Telno : 1aa1ff    Used Line : 008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Out Digit(Local:2)=1aa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tart Time : 2002/01/28 05:30:02  End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Metering Units = 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dqh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# Fname =   pmstx.dq  in-p = 1  out-p = 0       64 * 2710 : PMS T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480" y="90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876312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files in DiskOnCh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 : delete the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r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rename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copy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s0: DiskOnChip 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etc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-d(c) : display(change) network configur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display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change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new_value    : change the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.                    : exit to chang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system queue(the queue) status. (Local command, Local event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queue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disk queue(the queue) status. (fault.dq, pmstx.dq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disk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cal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to call moni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87631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pm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version of active cpm.im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vdv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device identification value(device_id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tl a(port_no1 port_no2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all call message(from the port_no1 to the port_no2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l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v device_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the devi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v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n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 statu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s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s status from port_no to port_no + 3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i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ISDN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q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QSIG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q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prir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 : start PRI RESTART PROCEDURE of the slot including the port_n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m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make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cur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sw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switch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b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data base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BD00028_" descr=""/>
          <p:cNvPicPr/>
          <p:nvPr/>
        </p:nvPicPr>
        <p:blipFill>
          <a:blip r:embed="rId1"/>
          <a:stretch/>
        </p:blipFill>
        <p:spPr>
          <a:xfrm>
            <a:off x="4826160" y="2004840"/>
            <a:ext cx="370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480" y="90360"/>
            <a:ext cx="50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witch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809640"/>
            <a:ext cx="87631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a(group_no) : display all(group_no) switch matri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r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r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gain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tmf_rx_gain port_rx_gain : set dtmf(0x00 ~ 0x1F) receive gain and ports(0x20 ~ 0x3FF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eive gai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SWM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BD05679_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514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200" y="903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ata Base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*                 : display all data base start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characters : display the data base start address including the character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ata_base_name[index] : display the data base value by the inde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DB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HM00363_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456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00" y="9036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the Switching status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801720"/>
            <a:ext cx="5105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CS-SWM&gt; vgs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    1    2     3    4     5    6    7       8    9    a     b    c     d    e    f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0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1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20   xxx xxx xxx 040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3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40   023 xxx xxx xxx xxx xxx xxx 08a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5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6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70   xxx xxx xxx xxx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80   xxx xxx xxx xxx xxx xxx xxx xxx   xxx xxx 047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9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a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b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c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d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e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f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886040"/>
            <a:ext cx="259092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system ton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0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send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10 ~ 0x1f(T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Receiv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2f(R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on convers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23 port and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새굴림"/>
              </a:rPr>
              <a:t> 0x40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47 port and 0x8a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6960" y="9036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call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85800"/>
            <a:ext cx="7467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 Format 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DE-&gt;CA&gt;   [0b][12] Off_Hook.......     [00/00] 00 01 02 f6 6a 9c 01 02 82 f6 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CA-&gt;DE&gt;   [0b][97] Receive Digits.   [00/00] ff ff ff ff ff ff ff ff ff ff 2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752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Additional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05740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Sub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362320"/>
            <a:ext cx="2743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ain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666880"/>
            <a:ext cx="4038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971800"/>
            <a:ext cx="4267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76720"/>
            <a:ext cx="4572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Devic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581280"/>
            <a:ext cx="5410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86200"/>
            <a:ext cx="5715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Port Number(port_n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191120"/>
            <a:ext cx="5867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Type of the port_n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600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600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Message Direction :AE(SLT), DE(DTEL), AD(ATD), WT(DECT), W2(DECT2), CO(APTC), RE(AL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T(DNIC-DTC), MF(DTMF), BS(PRI/BRI), VP(VPM), IP(VOIP), TM(TIMER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Type of the port_no : E(Extension), T(Trunk), P(PRI/BRIT/QSIG), B(BRI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0" y="9036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ISDN/QSIG L3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762120"/>
            <a:ext cx="80010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BX                                                       N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Q_SETUP       (QT:0122 S:00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0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4038090 a31803a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83826c06 008132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317005 c93130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I_ALERTING            (PT:0081 S:03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00000808 02819801 |&lt;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803a983 81              |  SAPI=00 TEI=00 CRL=02 CR=8198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Q_RELEASE        (QT:0122 S:01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4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802819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Axel</cp:lastModifiedBy>
  <dcterms:modified xsi:type="dcterms:W3CDTF">2004-02-10T16:00:46Z</dcterms:modified>
  <cp:revision>161</cp:revision>
  <dc:subject/>
  <dc:title>PowerPoint 프레젠테이션</dc:title>
</cp:coreProperties>
</file>